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DAFC-F8E2-4718-A94F-8F7D8F070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2333-FBAC-436F-9E70-7712EA15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5A4E-1FD1-4E95-8959-0904E108D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3CC8-0A9E-47D6-902D-65E013051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7589-EB08-4A1D-BC60-F917DEABA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71D7-D796-42AD-A56E-479B8C9B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4336-2E60-4933-BA82-2EDFCB0E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AAE1-DEA6-40AF-ABDA-FB0C208A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7AD5-A91C-43C7-B8B1-FFDE66F7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1DC0-8B3B-4586-96D7-4BD51AE3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DF24-5382-4130-B967-CBA28AC2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AF23-944B-400F-8647-D99E883C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41C9-8B62-40C6-87E4-7A0F7B66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5F72-83EF-443D-B598-3E8BA991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FFEC-5CB4-4E09-B6DA-7C6EF000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656B-B995-48CF-B6D2-0095CA936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A72A-4309-4F40-A83A-8B7791BE5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DA171-2346-418A-A77E-808483361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EFFC4-34CA-44AC-8F79-C1B68E4E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B2F5B-AA93-4F6D-B7BE-5F3016F4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71D0D-471D-4D0E-A281-E05C099E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EBF20-6853-477F-B206-2A72F82E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5C1D-B495-4832-A538-F4BC8D6B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0B00D-AFC5-41A6-AD95-A24F5E28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FD554-6FD1-4F42-A8C3-E913EC9E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4187D-882C-4EEA-ADAB-F702A279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7165F-DA79-4CEE-B027-01978373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A855C-ABF5-4E08-ACD8-7A82A201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981F5-3298-47CD-A04D-F8A78DDED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8642A-8D01-4345-B8D5-D9FED7E6F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14F1D-71C0-4ABE-A5A1-AEE8224CE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644A0-B99B-4369-84F8-4940D0C6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E2477-E96A-4F40-8801-CE651000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2521-08BD-4988-BD94-2B05ACB4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F28BA-F379-46A6-89E2-1E3F5760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87D5F-82FC-4530-9E33-F78CD28C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B7389-FE37-47C6-B4BF-A0E3C5E6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CF6B6-6FE1-4558-88F5-CFCB4878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E53F0-C281-49C3-BF1D-934B1BE4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AE4F4-BCDC-414C-BBA6-FD858BAF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8B348-2848-4F3B-95F4-5EA5CC47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774AE-5D3C-41B6-B254-4A7C253A6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02615-3A54-4559-86F0-99588126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8DD3-E45D-4E99-A888-242E68EA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6913-C314-4F62-8B99-8BECAC12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3A84-DEA5-4B52-9328-2DE89BBD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296C-7828-41BC-825A-DB55A4ED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D1A8-19DB-4307-8604-300FEC38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5131-5996-4E96-8135-2BA4A5812B71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1759-DAA8-4D05-9B08-F15C7114F13B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4BD9-0EC9-4EFE-B7EB-C0983FCF6903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7943-FEB2-4A6E-9660-4A7AF84957E8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2120" y="150480"/>
            <a:ext cx="9718560" cy="4157640"/>
          </a:xfrm>
          <a:prstGeom prst="rect">
            <a:avLst/>
          </a:prstGeom>
          <a:noFill/>
          <a:ln w="9360">
            <a:solidFill>
              <a:srgbClr val="90c226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6000" spc="-1" strike="noStrike">
                <a:solidFill>
                  <a:srgbClr val="90c226"/>
                </a:solidFill>
                <a:latin typeface="Trebuchet MS"/>
              </a:rPr>
              <a:t>        </a:t>
            </a:r>
            <a:r>
              <a:rPr b="0" i="1" lang="ru-RU" sz="6000" spc="-1" strike="noStrike">
                <a:solidFill>
                  <a:srgbClr val="90c226"/>
                </a:solidFill>
                <a:latin typeface="Trebuchet MS"/>
              </a:rPr>
              <a:t>Окружающий мир</a:t>
            </a:r>
            <a:br>
              <a:rPr sz="6000"/>
            </a:br>
            <a:r>
              <a:rPr b="0" i="1" lang="ru-RU" sz="6000" spc="-1" strike="noStrike">
                <a:solidFill>
                  <a:srgbClr val="90c226"/>
                </a:solidFill>
                <a:latin typeface="Trebuchet MS"/>
              </a:rPr>
              <a:t>      «Кто нас лечит»?</a:t>
            </a:r>
            <a:br>
              <a:rPr sz="6000"/>
            </a:br>
            <a:r>
              <a:rPr b="0" i="1" lang="ru-RU" sz="60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90c226"/>
                </a:solidFill>
                <a:latin typeface="Trebuchet MS"/>
              </a:rPr>
              <a:t>Тема недели: </a:t>
            </a:r>
            <a:br>
              <a:rPr sz="2000"/>
            </a:br>
            <a:r>
              <a:rPr b="0" lang="ru-RU" sz="2000" spc="-1" strike="noStrike">
                <a:solidFill>
                  <a:srgbClr val="90c226"/>
                </a:solidFill>
                <a:latin typeface="Trebuchet MS"/>
              </a:rPr>
              <a:t>«Мир профессий»</a:t>
            </a:r>
            <a:br>
              <a:rPr sz="2000"/>
            </a:br>
            <a:r>
              <a:rPr b="0" lang="ru-RU" sz="2000" spc="-1" strike="noStrike">
                <a:solidFill>
                  <a:srgbClr val="90c226"/>
                </a:solidFill>
                <a:latin typeface="Trebuchet MS"/>
              </a:rPr>
              <a:t>(с 13.04 по 17.04)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Цель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292040" y="1890360"/>
            <a:ext cx="793908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Узнать больше о профессий врач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45960" y="-360"/>
            <a:ext cx="942948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6000" spc="-1" strike="noStrike">
                <a:solidFill>
                  <a:srgbClr val="90c226"/>
                </a:solidFill>
                <a:latin typeface="Trebuchet MS"/>
              </a:rPr>
              <a:t>«Доктор Айболит»</a:t>
            </a:r>
            <a:endParaRPr b="0" lang="en-US" sz="6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320760" y="1770120"/>
            <a:ext cx="522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егодня вам предлагаем прочитать  сказку: Корнея Чуковского «Доктор Айболит». Так же вы можете просмотреть видео сказ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Рисунок 5" descr="1017815927.jpg"/>
          <p:cNvPicPr/>
          <p:nvPr/>
        </p:nvPicPr>
        <p:blipFill>
          <a:blip r:embed="rId1"/>
          <a:stretch/>
        </p:blipFill>
        <p:spPr>
          <a:xfrm>
            <a:off x="7515360" y="1246320"/>
            <a:ext cx="374328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502920" y="193680"/>
            <a:ext cx="85964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сле прочтения или просмотра задать ребенку следующие вопросы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ак называется профессия «Доктора Айболита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ля чего ему нужен чемоданчик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Что находиться в этом чемоданчике предметы по картинке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играть в игру:«Айболит проверяет здоровье ребят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Стрелка вниз 9"/>
          <p:cNvSpPr/>
          <p:nvPr/>
        </p:nvSpPr>
        <p:spPr>
          <a:xfrm>
            <a:off x="7280280" y="133020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Рисунок 10" descr="doctor.png"/>
          <p:cNvPicPr/>
          <p:nvPr/>
        </p:nvPicPr>
        <p:blipFill>
          <a:blip r:embed="rId1"/>
          <a:stretch/>
        </p:blipFill>
        <p:spPr>
          <a:xfrm>
            <a:off x="7505640" y="1346040"/>
            <a:ext cx="4892760" cy="48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52560" y="2028960"/>
            <a:ext cx="4335120" cy="420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Прямоугольник 2"/>
          <p:cNvSpPr/>
          <p:nvPr/>
        </p:nvSpPr>
        <p:spPr>
          <a:xfrm flipV="1">
            <a:off x="325440" y="1602360"/>
            <a:ext cx="4021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Содержимое 11" descr="1026514629.jpg"/>
          <p:cNvPicPr/>
          <p:nvPr/>
        </p:nvPicPr>
        <p:blipFill>
          <a:blip r:embed="rId1"/>
          <a:stretch/>
        </p:blipFill>
        <p:spPr>
          <a:xfrm>
            <a:off x="450720" y="272880"/>
            <a:ext cx="965520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6240" y="240480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Спасибо за внимание!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31T01:25:42Z</dcterms:created>
  <dc:creator>HP!</dc:creator>
  <dc:description/>
  <dc:language>en-US</dc:language>
  <cp:lastModifiedBy>USER</cp:lastModifiedBy>
  <dcterms:modified xsi:type="dcterms:W3CDTF">2020-04-10T12:11:53Z</dcterms:modified>
  <cp:revision>56</cp:revision>
  <dc:subject/>
  <dc:title>Фотоальбом</dc:title>
</cp:coreProperties>
</file>